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821-E944-49C0-BF4F-C5A52B15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C6C-4483-4DD9-A876-B136F1B0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63A-EEBA-469D-A884-768A300C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0B4-B204-43FE-8345-20E782D0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02AB-3DF9-4CDF-821C-47AE8756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F476-EA34-4AAA-A193-CBF7152E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3C5C-D710-4D9F-B59D-CEE4D924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C3DC-8240-496C-A759-CEA5D86B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998C-53C5-4CEC-B226-1F64C666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5CC8-53CD-4ECE-915C-A2D36E31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FEA0-398D-4875-A4AF-E0A1CCE3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861-A1A9-44DB-8C4C-71327076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00E6-E95B-4840-987C-F987861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C6DE-682A-46BB-852B-4C03B46E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2132-C447-46D0-BD40-E67EB27B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59C2-89A4-4C63-8280-65B0ACAD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0502-E509-4146-BEBD-62FC1E12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15E-C37A-42B7-BC39-FC956640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AE3-DCB5-475B-942B-6A49CFE8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B00-E099-480D-9EC8-8A720261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123-EF5D-48D0-8172-AB83210C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ED7-DEFD-4D10-B972-C0D066EC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6E9-9FCD-4DEE-AD51-3B613A1C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423-120B-433F-A323-B1E98A94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36B5-55D5-465C-983F-A79028A463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80EF-6D88-408B-A311-63EC1E5FE8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601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ТРОЙНАЯ </a:t>
            </a:r>
            <a:br>
              <a:rPr sz="6600"/>
            </a:b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 ЗАЩИТ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3645000"/>
            <a:ext cx="8317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Мы, Богу моляс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твердо зна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Что наш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защита трой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11768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А день тот сошествия Духа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се ТРОИЦЕЙ ныне зовут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03400" y="1484280"/>
            <a:ext cx="3448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6165720"/>
            <a:ext cx="5113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МУДО ЦЕНТР ВОРОШИЛОВСКОГО РАЙОНА ВОЛГОГРАД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ПДО Саенко Зоя Анатольевн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20 го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50560" y="1676520"/>
            <a:ext cx="85914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И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Богу молясь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, </a:t>
            </a:r>
            <a:br>
              <a:rPr sz="20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вердо знаю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что это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защита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ройн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68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216400" y="242064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ворец наш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ец наш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бес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р созда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нас сотвор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0000" y="260280"/>
            <a:ext cx="5238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Но искус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как Змей вероломный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Лишил нас божественных кры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905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851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И Сына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 мир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ставший жестоким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3024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е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ыл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р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5786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Чтоб кровью Его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как потоком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Земля очищала себ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5000" y="1413000"/>
            <a:ext cx="46134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оскресший  Христос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как и прежде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при жизни короткой свое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4280" y="1700280"/>
            <a:ext cx="4178520" cy="475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88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Нёс свет нам добра и надежды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 сиянье бессмертных иде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7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О Боге учил Триедином, но только лишь ученики </a:t>
            </a:r>
            <a:br>
              <a:rPr sz="24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Дух видеть могли голубиный и огненные языки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965320" cy="36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51280" y="1341360"/>
            <a:ext cx="4851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И стали на разных наречьях нести они веру Христа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6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Когда нет в ней противоречья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 душа и сильна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 и чист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614600"/>
            <a:ext cx="590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4T11:47:04Z</dcterms:created>
  <dc:creator>home</dc:creator>
  <dc:description/>
  <dc:language>en-US</dc:language>
  <cp:lastModifiedBy>home</cp:lastModifiedBy>
  <dcterms:modified xsi:type="dcterms:W3CDTF">2020-05-27T08:48:42Z</dcterms:modified>
  <cp:revision>14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